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DFA-62B2-4CCA-BAED-F5ABDF8E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E1C-AD56-44EE-B008-D5B2B4F6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08D-FB0D-4FB7-A4A1-15F1EA0D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7FD-BA03-402D-9D87-FFFF2418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62E-FC46-4C33-AE35-C2247A1E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1B0-11B5-4D39-A088-FEC3CB29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A1A-95EF-419A-875D-E41FCC6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A1-C26D-4678-8A0C-9B8BC53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785-E3AB-4B27-A3F9-5A773A40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0F5-3256-4EEC-9660-2B38838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9A6-FF5D-4CAD-92B4-023D87A8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23B-27A7-40BB-B410-2984012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AB46-1EDE-4FED-A390-5A0C8FC38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lam rules over Spain, Omayyad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dova the Ca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 11C El Cid pushes back at Omayyad Dyna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4- Sp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an Catholic and Orthodox Chu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an Catholic Church soon enacts doctr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est Celib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y and Invest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ation of Pope (el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d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iam the Conqueror defeats Harold at the Battle of Ha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nry IV (HRE) and Gregory VII (Po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oral v. Spiritual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Crus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II (Lionhea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dral of St. Denis (Su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largely Christia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Francis of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can Order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ies begin to be establishe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4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usade ransacks Constantin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ice controls Constantinople next 60+ years- further decay of Byzantine Emp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tomans move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a Carta (King John “Softsword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eran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Sem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nada remaining Islamic but under the control of Castile, waning of Islamic Power in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erno, Divine Come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Parliament Cre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of Burg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o Polo travels to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2 Boniface VIII and Philip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9 Avignon Pap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15 Widespread F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37 100 y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ard III claim to thr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ates General created during W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le of Koso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Sc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80 ci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 Wycl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 Ri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qu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 Bull (Lollar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ian Rebell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toman empire gains ground in Asia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k Scholars move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r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ccac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o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u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ar Movement- A Single Pope (Rome) Martin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 of Jan 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year War- Battle of Agin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e Henry the 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ry Islands and Azores Is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dici’s rule Flo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0 ci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ttenberg invents Printing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Hundred Year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 Un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an of Arc helps lead victory (executed as Heret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inople taken by Ott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5 War of the 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Tudors take power (Henry 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la (Aragon), Ferdinand (Castille) tak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anish Inquisition starts (14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92 Grenada defeated- Jews and Muslims order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G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7:19:29Z</dcterms:created>
  <dc:creator>Darien Public Schools</dc:creator>
  <dc:description/>
  <dc:language>en-US</dc:language>
  <cp:lastModifiedBy>Darien Public Schools</cp:lastModifiedBy>
  <dcterms:modified xsi:type="dcterms:W3CDTF">2008-09-09T18:24:11Z</dcterms:modified>
  <cp:revision>2</cp:revision>
  <dc:subject/>
  <dc:title>Significant Events</dc:title>
</cp:coreProperties>
</file>